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4FA0-6E9C-49FE-B694-1E09E360A2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A863-AF68-4E38-B46D-5DD5D8261D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F62C-526F-4747-B008-018BE14B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D41D-1F75-4107-8421-5FD8AF38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1DCF-5123-44F5-8DD1-971CFD62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6053-52EF-43EF-9BDD-AC90BACA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19C0-0F78-41D8-A496-B292EEBB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68B-C811-4DC9-A93B-24854B58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1322-4980-41B3-AAF1-D7A62EC8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DCBA-3077-418E-B442-955F5528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F77-C71C-411C-A649-BDE45EE3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8302-EB8B-4EB3-8AB1-05FADDF9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13E3-6F10-43CE-AA8A-484764AA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B246-4DED-4C6B-A0DA-B91D80DA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4258-E583-45D7-A8B4-A9FCBA07E5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429F-54F7-48C8-B613-7A88936689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314280" y="1476360"/>
          <a:ext cx="8829720" cy="53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476360"/>
                    <a:ext cx="882972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апреля 202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45A4-C586-4356-896C-77C4FC8C66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апреля 2024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4-04-01T04:35:52Z</dcterms:modified>
  <cp:revision>167</cp:revision>
  <dc:subject/>
  <dc:title>Презентация PowerPoint</dc:title>
</cp:coreProperties>
</file>